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3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7DEE-47F8-41EC-8067-FD3D57317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B370-74B2-462F-A55E-18979656D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5A2F-506F-496D-9BF8-A06810A7D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C2AF-7E41-480B-A74C-6DA52E9A5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D4D4-0A9D-4911-90D0-81E7BC366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40D7-689E-46D5-9683-08B3774E2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F107-A054-4130-941F-78F8F8C7A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AE26-E42B-4A55-9F56-E82D1C073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45D7-8759-4A0D-BE04-D78AEDA4D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9588-CEA5-462E-BAFB-9C731FBF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4C2A-6F53-46DE-9AE9-29555D71D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FF3A-A4AD-42EA-970A-72E5951D3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BEC3B-82E4-470C-8933-A6585166C4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836640"/>
            <a:ext cx="9144000" cy="5143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050920" y="2492280"/>
            <a:ext cx="5832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ВАР - КОНДИТЕР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84120"/>
            <a:ext cx="9144000" cy="60897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78000"/>
            <a:ext cx="9144000" cy="610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639720"/>
            <a:ext cx="9144000" cy="55767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698400"/>
            <a:ext cx="9144000" cy="54594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28600" y="0"/>
            <a:ext cx="86868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369720"/>
            <a:ext cx="9144000" cy="6118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382680"/>
            <a:ext cx="9144000" cy="60926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9640" y="0"/>
            <a:ext cx="80647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1120" y="0"/>
            <a:ext cx="88599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853920"/>
            <a:ext cx="9144000" cy="51483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378000"/>
            <a:ext cx="9144000" cy="610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190520"/>
            <a:ext cx="9144000" cy="44769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4600" y="0"/>
            <a:ext cx="87933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480" y="0"/>
            <a:ext cx="90230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044720"/>
            <a:ext cx="9144000" cy="4768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30320" y="0"/>
            <a:ext cx="70819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82680"/>
            <a:ext cx="9144000" cy="60912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519120"/>
            <a:ext cx="9144000" cy="5818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3480" y="0"/>
            <a:ext cx="90770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66760"/>
            <a:ext cx="9144000" cy="63244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ПОВАР-КОНДИТЕР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специалист, умеющий изготавливать кондитерские изделия и десер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46040"/>
            <a:ext cx="9144000" cy="59641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465200"/>
            <a:ext cx="9144000" cy="39258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65240"/>
            <a:ext cx="9144000" cy="65275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703440"/>
            <a:ext cx="9144000" cy="54496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32000" y="1557360"/>
            <a:ext cx="3475080" cy="5156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050920" y="836640"/>
            <a:ext cx="5977080" cy="1152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иятного аппетита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Подводим итог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ПОВАР-КОНДИТЕ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фессионально-важные качества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лжен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любить готови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обходимы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хорошая памя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в том числе вкусовая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творческо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воображе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тонкий вкус и обоня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орошая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координация движени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на уровне рук)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глазомер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воспроизводящее воображение (способность, глядя на рецепт, представить внешний вид и вкус блюда)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ответственно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честно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ндитеру нужна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физическая выносливо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При поточном производстве приходится работать в высоком темпе, а если на производстве нет автоматизации, это означает большие физические нагруз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едицинские противопоказ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олезни опорно-двигательного аппарата, сердечнососудистой системы,  аллергии на пищевые продукты, хронические заболевания органов пищеварения, органов дыхания, органов зрения, кожи с локализацией на кистях ру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бсолютно недопустимы инфекционные и нервные боле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838080"/>
            <a:ext cx="9144000" cy="51818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341360"/>
            <a:ext cx="9144000" cy="51451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40464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ПРОФЕССИОНАЛЬНАЯ ПРОБ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55640" y="1628640"/>
            <a:ext cx="7199280" cy="42166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189000"/>
            <a:ext cx="842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Трайф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традиционный английский десер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ереводе с английского - «Мелочь», «Пустячок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Правила рабо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ед началом работ надеть форму, перчат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готовление десерта описано в технологической карте. Соблюдайте технологию приготов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мните о правилах безопасной работы с ножом и электрическим миксе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ремя приготовления 15 минут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1844640"/>
            <a:ext cx="4537080" cy="45370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9280" y="260280"/>
            <a:ext cx="453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Arial"/>
              </a:rPr>
              <a:t>Трайф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Arial"/>
              </a:rPr>
              <a:t>«Кофе-брей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32360" y="260280"/>
            <a:ext cx="403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Трайф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«Фруктовый (ягодный)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62480" y="1844640"/>
            <a:ext cx="3608640" cy="45100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Arial"/>
              </a:rPr>
              <a:t>РЕЦЕП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7200" y="765000"/>
          <a:ext cx="8229600" cy="49262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23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Трайф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«Кофе-брейк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Трайф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«Фруктовый (ягодный)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слой (нижний) – бисквит, пропитанный холодным коф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слой (нижний) – бисквит, пропитанный ягодным сироп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слой - ванильный кр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слой – сироп (варенье из ягод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слой – нарезанные бана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слой – нарезанные фрукты или яг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слой - сливки, взбитые с сахарной пудр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слой - ванильный кр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6,7,8 слои повторяют 1,2,3,4 сло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слой – сливки, взбитые с сахарной пудр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19T19:14:04Z</dcterms:created>
  <dc:creator>Александр</dc:creator>
  <dc:description/>
  <dc:language>en-US</dc:language>
  <cp:lastModifiedBy>Александр</cp:lastModifiedBy>
  <dcterms:modified xsi:type="dcterms:W3CDTF">2017-12-21T02:47:06Z</dcterms:modified>
  <cp:revision>4</cp:revision>
  <dc:subject/>
  <dc:title>Слайд 1</dc:title>
</cp:coreProperties>
</file>